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F0F-54C2-41EC-9319-AB9EE654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DCE-4196-469E-B75A-361AF94F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D3AC-5001-49AD-8483-7BB04B0A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D06-5B51-4E85-BEB9-FA4C690C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303D-16E1-4061-AB75-7F1E3DB7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952D-677C-45CA-9C29-4C49FE45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4835-531F-4A94-A24B-6CD2EAB9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AFA4-25AA-4B0F-9A51-C9CE381B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3099-A32B-4533-A2FA-DEAA5460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4478-C528-4B06-99F5-AAD639B3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8AEF-B4A4-49C6-A4BC-308DF3C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9F54-F07E-4652-BC5D-B7DAB60F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F6A2-35AE-4B61-A7A8-8821593B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5C18-D205-4181-A131-C242F424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EB9D-DA32-46CA-B34F-2E66CF71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0F98-CBD3-4949-9015-3905CED4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3EB4-6DEB-4CB6-A74F-DB017566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503-3939-4711-B1A5-3BF0CB8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BFB-E783-413F-8544-529A3A8E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1C7-4FE0-4EBA-9EF5-7BD7F08C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E76F-52CA-4996-BA1D-D79FA272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E1F-0720-4E7B-8E0A-507BBB48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38F-E2BC-46AA-9C1D-A0F98D7F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859-094C-40B2-AA26-9786FF8E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013F-5CB0-433B-BD78-DE81C4CA8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E4FE-AC61-48A6-839C-BF893C33A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ory will be provided with more than enough activities for each week of the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ors can pick and choose which activities they will use and have the freedom to lead the group discussions in a different direction or present different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topics or activities may be given to teachers through out the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is not…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urriculum that must b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is not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s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counselors, social workers, psychologists are trained for counseling and will continue to do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 a Nut She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to give the kids an adult and a group of other kids to connect with and get to know on a more personal level.  Advisors should model good decisions and positive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105520" y="223344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s small, caring communities of learn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s mutually respectful and meaningful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individual attention to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each student with an opportunity to be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s the social and emotional development of every young adolesc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s students with interpersonal communication skills and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SA supports advisory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adolescents should have at least one adult at a school in which they can connect with and to serve as their advocate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teachers to be actively involved in the affective development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fun, non stressful portion of a teachers work week in which they can connect with students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878360" y="1295280"/>
            <a:ext cx="3714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of the program to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luation of the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g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gr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just one more thing for me to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I have to plan for advis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181480" y="207180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something comes up that I am not comfortable dealing w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/should I contact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762600" y="914400"/>
            <a:ext cx="1428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a student asks a question that I don’t have the answer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World says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visory of some type is essential to a successful Middle School progra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we don’t finish the activ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your group about 1 thing they would like to accomplish or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tudents make con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ould YOU Pick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952880" y="2678040"/>
            <a:ext cx="3733920" cy="2190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85800" y="190512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you rather have $5,000 to spend any way you want or $1,000,000 that you would have to spend helping others (not a relative or fri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moment discussing what you would pick and why at you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ould YOU Pick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952880" y="2678040"/>
            <a:ext cx="3733920" cy="21909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5800" y="1905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, Let’s say everyone chose to take the million.  Now discuss with your group how you would spend it to help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e w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876920" y="169056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e don’t wan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648320" y="1951200"/>
            <a:ext cx="4267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?????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MSA~ Seven Essential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 philosophy and mission that reflect the intellectual and developmental needs and characteristics of young adolesc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An organization and structure that support both academic excellence and personal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One More Thing To Do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Yes, but……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Student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One More Positive Thing for Our Students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is an organized group of 1 adult and 10-12 students that serves as the students first line of affiliation in their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groups meet twice a week for about 20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ors lead activities with their groups that promote productive convers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48320" y="2363760"/>
            <a:ext cx="42670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1:07:43Z</dcterms:created>
  <dc:creator>North Rockland Schools</dc:creator>
  <dc:description/>
  <dc:language>en-US</dc:language>
  <cp:lastModifiedBy>North Rockland Schools</cp:lastModifiedBy>
  <dcterms:modified xsi:type="dcterms:W3CDTF">2009-02-10T13:05:54Z</dcterms:modified>
  <cp:revision>11</cp:revision>
  <dc:subject/>
  <dc:title>Advisory Program</dc:title>
</cp:coreProperties>
</file>